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45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71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5582B-89C9-4EC5-90EC-B3770383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4B791-9664-442A-B8BF-D43BB90D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99C4-CDBE-4983-9A1E-DCA827A2D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8235C-1DD5-492E-AD0C-A7BBD2E44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DC8CA-12DB-44D3-B633-1A8D471B5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C14AB-4BE9-4730-BEB1-5457776745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EC17-6358-46DE-BE5F-D7FC2B12E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4A057-DDCE-45F6-8A86-C6B567E2A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AAE3-E908-4A1E-B969-8567FE9EF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F9ED-BD2B-4245-9EC0-93B1393D1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C67F-E687-458D-9553-46FC98C48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0BB9-0F39-456B-906A-59531F2C9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B84-E780-40FC-B84D-5F4272DC5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81158-72F5-435E-9119-E1CC0D9B9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9D233-7E77-4CE2-9FAC-3BD0AE685D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5: A Few More Principles/Cognitive Psychology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ty - authenticity,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ity - change,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- not just product bu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- feeling of wholeness, transportation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- clear, fluid, seamless use and transitions among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is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ve/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/Short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storage - 30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earsal and repetition - visual and spa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” - mnemonics and relations help memor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 unlimited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- most working memory is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- we remember things in context and connection - whether the connections make sens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odal and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- specific “bits” and their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- relati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are not good at recall, excellent a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 are not good at recognition, excellent at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memory - decay and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– changes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active (new information corrupts connections to 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active (previous information confounds absorption of n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d networks (e.g., neurological disor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to human activity - a lot of “human error” can be traced to inappropriate or unfocused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mory, complex as well, influenced by man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led vs. Auto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- focused but limited, slow but thorough, hard to sustain for long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- fast, allows for multitasking, nearly subconscious - but also vague and spora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/peripher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/physical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ng things to atten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256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first assignment up on wiki – some discussion and examples in lab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on cognitive psychology and Design - Ch. 5, 6,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inci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ve/universal design principles to address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ability is the norm, not th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s for people with disabilities work for other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user experience is affected by design constraint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Univers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right” size and space (p.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 Decision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hard to design everything for everyone - how to de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/changing - is difference innate and immutable, or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/rare - is difference a reasonably common occur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/Expensive - what is the cost of accommo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s of product acceptability/adoption – strongly influenced by the right mix of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balance more complex than most designers or businesspeople care to admit – many factors unknown or unknow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- trust, organiz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effects – social diffusion of innovations, hubs/links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ence – sufficiently easy, effor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or social habits – violation and/or evolution of social n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ness - relevance to activities in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- price points, changes in business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bond, attachment - a feeling of personal relationship, even anthropomorphism (exampl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both aesthetics and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8:27Z</dcterms:created>
  <dc:creator/>
  <dc:description/>
  <dc:language>en-US</dc:language>
  <cp:lastModifiedBy>Sheridan College</cp:lastModifiedBy>
  <dcterms:modified xsi:type="dcterms:W3CDTF">2009-01-26T20:05:56Z</dcterms:modified>
  <cp:revision>19</cp:revision>
  <dc:subject/>
  <dc:title>CCT 333: Imagining the Audience in a Wired World</dc:title>
</cp:coreProperties>
</file>